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951-F5BD-4C04-9E85-5807E3DD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B6D-48C3-4F9A-B809-D9C3C012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F96-F15B-4793-89AE-23728CBD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80E-1F0D-40EE-940F-9AE2DAC2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19A-77CD-4D55-A115-9CBD0BC3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37D-8062-4958-ACB4-810FB713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E0CE-1D11-4CC4-AC81-32F1A902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F02-D8E6-455F-8417-EACFC67E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644-A45E-4E1C-AE39-4F710CC9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A4C-031C-4B68-A4B6-3660E703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FC3-E735-4015-B1D1-123B2969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98F-FB23-44E4-BF42-D836CAC0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FE6D-2F6B-48BC-A633-D5479B20C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6019920" cy="74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-T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test is to help the participant know where he/she stands at the end of the cou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 What are three occupational hazards associated with handling infectious waste, disinfecting contaminated surfaces, and responding to infectious materials inciden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at is TB? ____________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 The risk of getting TB on the job is higher for hospital housekeepers than nurses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 Reporting a needlestick injury is not important and it might get you into trouble with your bo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.  Gloves have small holes, and bacteria can get into your hands even if you wear them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45720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me:____________________Date: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28600"/>
            <a:ext cx="6172200" cy="83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6.  Where is pathological waste found in the health care facilit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.  Pathological waste is the only type of infectious waste that needs to be incinerated to protect the public healt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8.  Why are medical waste incinerators a danger to public healt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9.  Name four ways a hospital can reduce the amount of infectious waste it sends to incinerators for dispos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.  There is a fungus that lives in dust that can make patients sick and possibly die from inf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1.  What is V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304920"/>
            <a:ext cx="6248160" cy="80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2.  VRE can live on hospital surfaces for many d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3.  You do not have to change the mop water after cleaning an isolation ro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4.  What are some things you can do to improve the way you clea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5.  Where can you find a Material Safety Data Sheet at your health care facility for the product that you use to disinfect surfac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6.  What are some things that you can do to reduce your chances of getting stuck by a need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7.  It is okay for an environmental services professional to clean up a mercury spil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04920"/>
            <a:ext cx="6248160" cy="58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8.  Regulated medical waste is a hazardous mater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.  Regulated medical wastes are considered infectious and must be managed with c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.  Anyone who prepares untreated regulated medical waste for shipment and disposal off-site must be trained and tested on three subject areas according to federal reg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1.  If infectious waste is treated on-site at the health care facility, it is no longer a hazardous material and it can be shipped off-site for disposal without any special packaging or label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2.  If untreated regulated medical waste or infectious waste ends up at a transfer station or landfill, the health care facility will be fined a lot of mone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4:02:55Z</dcterms:created>
  <dc:creator>Renee Dufault</dc:creator>
  <dc:description/>
  <dc:language>en-US</dc:language>
  <cp:lastModifiedBy>OC</cp:lastModifiedBy>
  <dcterms:modified xsi:type="dcterms:W3CDTF">2002-05-08T19:00:34Z</dcterms:modified>
  <cp:revision>4</cp:revision>
  <dc:subject/>
  <dc:title>No Slide Title</dc:title>
</cp:coreProperties>
</file>